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F88-6B12-48B0-B6AF-7F46ED90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CB6-303A-4C40-8EDF-BF8E88ED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D1E-CE04-4F96-BDAC-5ECF6472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CE2-E4EC-48BC-BF69-62672B2E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337-3585-46F4-AF3A-A9DB3474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C0A-98E9-4A37-90AC-6D4CB570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DD9-FB7C-4B7E-A54E-BB25BE18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B8B-9FD7-4290-8E0B-545EF499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AB5-ECFF-4017-A44E-A44049E6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F783-D1E6-45EC-B779-AD81093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838-E5EF-4B50-8901-EE6EAFC4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BCB-44AD-4676-B2D1-60C53C3B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1BD9-B282-4F7C-9311-B63BBDAED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2ce4"/>
            </a:gs>
            <a:gs pos="50000">
              <a:srgbClr val="000000"/>
            </a:gs>
            <a:gs pos="100000">
              <a:srgbClr val="9e2c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-1522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Edwardian Script ITC"/>
              </a:rPr>
              <a:t>El Cine de Rache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685800"/>
            <a:ext cx="61722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cc7e8"/>
                </a:solidFill>
                <a:uFillTx/>
                <a:latin typeface="Andalus"/>
              </a:rPr>
              <a:t>La pel</a:t>
            </a:r>
            <a:r>
              <a:rPr b="1" lang="en-US" sz="3200" spc="-1" strike="noStrike" u="sng">
                <a:solidFill>
                  <a:srgbClr val="3cc7e8"/>
                </a:solidFill>
                <a:uFillTx/>
                <a:latin typeface="Andalus"/>
                <a:ea typeface="Arial"/>
              </a:rPr>
              <a:t>ĺ</a:t>
            </a:r>
            <a:r>
              <a:rPr b="1" lang="en-US" sz="3200" spc="-1" strike="noStrike" u="sng">
                <a:solidFill>
                  <a:srgbClr val="3cc7e8"/>
                </a:solidFill>
                <a:uFillTx/>
                <a:latin typeface="Andalus"/>
              </a:rPr>
              <a:t>cula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c7e8"/>
                </a:solidFill>
                <a:latin typeface="Andalus"/>
              </a:rPr>
              <a:t> </a:t>
            </a:r>
            <a:r>
              <a:rPr b="1" lang="en-US" sz="2400" spc="-1" strike="noStrike">
                <a:solidFill>
                  <a:srgbClr val="3cc7e8"/>
                </a:solidFill>
                <a:latin typeface="Andalus"/>
              </a:rPr>
              <a:t>Free Wi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312408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cde74"/>
                </a:solidFill>
                <a:uFillTx/>
                <a:latin typeface="LilyUPC"/>
              </a:rPr>
              <a:t>Sesiones</a:t>
            </a:r>
            <a:r>
              <a:rPr b="1" lang="en-US" sz="1600" spc="-1" strike="noStrike" u="sng">
                <a:solidFill>
                  <a:srgbClr val="1cde74"/>
                </a:solidFill>
                <a:uFillTx/>
                <a:latin typeface="Lily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de74"/>
                </a:solidFill>
                <a:latin typeface="LilyUPC"/>
              </a:rPr>
              <a:t>12/15- 12/17-</a:t>
            </a:r>
            <a:r>
              <a:rPr b="0" lang="en-US" sz="1600" spc="-1" strike="noStrike">
                <a:solidFill>
                  <a:srgbClr val="1cde74"/>
                </a:solidFill>
                <a:latin typeface="LilyUPC"/>
              </a:rPr>
              <a:t> 3:00, 4:30, 5:15, 6:30, 7:00, 7:30, 8:00, 9:3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de74"/>
                </a:solidFill>
                <a:latin typeface="LilyUPC"/>
              </a:rPr>
              <a:t>12/18- 12/20-</a:t>
            </a:r>
            <a:r>
              <a:rPr b="0" lang="en-US" sz="1600" spc="-1" strike="noStrike">
                <a:solidFill>
                  <a:srgbClr val="1cde74"/>
                </a:solidFill>
                <a:latin typeface="LilyUPC"/>
              </a:rPr>
              <a:t> 12:00, 1:30, 3:30, 4:30, 5:45, 6:15, 7:15, 8:45, 9:30, 10: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de74"/>
                </a:solidFill>
                <a:latin typeface="LilyUPC"/>
              </a:rPr>
              <a:t>12/21-12/23-</a:t>
            </a:r>
            <a:r>
              <a:rPr b="0" lang="en-US" sz="1600" spc="-1" strike="noStrike">
                <a:solidFill>
                  <a:srgbClr val="1cde74"/>
                </a:solidFill>
                <a:latin typeface="LilyUPC"/>
              </a:rPr>
              <a:t> 11:30, 12:15, 1:00, 2:30, 3:25, 4:15, 5:00, 6:30, 7: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de74"/>
                </a:solidFill>
                <a:latin typeface="LilyUPC"/>
              </a:rPr>
              <a:t>12/24-12/25-</a:t>
            </a:r>
            <a:r>
              <a:rPr b="0" lang="en-US" sz="1600" spc="-1" strike="noStrike">
                <a:solidFill>
                  <a:srgbClr val="1cde74"/>
                </a:solidFill>
                <a:latin typeface="LilyUPC"/>
              </a:rPr>
              <a:t> 4:45, 6:15, 6:00, 7:30, 8:30, 9:15, 10:00</a:t>
            </a:r>
            <a:r>
              <a:rPr b="0" lang="en-US" sz="1600" spc="-1" strike="noStrike">
                <a:solidFill>
                  <a:srgbClr val="1cde74"/>
                </a:solidFill>
                <a:latin typeface="LilyUPC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29000" y="685800"/>
            <a:ext cx="209556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638680" y="99072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c7e8"/>
                </a:solidFill>
                <a:latin typeface="Monotype Corsiva"/>
              </a:rPr>
              <a:t>Diciembre 15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1600200"/>
            <a:ext cx="2362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</a:rPr>
              <a:t>Ni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  <a:ea typeface="Arial"/>
              </a:rPr>
              <a:t>ñ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</a:rPr>
              <a:t>os- 10 d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  <a:ea typeface="Arial"/>
              </a:rPr>
              <a:t>ó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</a:rPr>
              <a:t>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</a:rPr>
              <a:t>Adultos- 15 d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  <a:ea typeface="Arial"/>
              </a:rPr>
              <a:t>ó</a:t>
            </a:r>
            <a:r>
              <a:rPr b="1" lang="en-US" sz="2400" spc="-1" strike="noStrike" u="sng">
                <a:solidFill>
                  <a:srgbClr val="3cc7e8"/>
                </a:solidFill>
                <a:uFillTx/>
                <a:latin typeface="Monotype Corsiva"/>
              </a:rPr>
              <a:t>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65760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Con Jason James Richter, Lori Petty, Jayne Atkinson, y August Shellenbur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3657600"/>
            <a:ext cx="2051280" cy="211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72200" y="281952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Elephant"/>
              </a:rPr>
              <a:t>Las comidas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Elephant"/>
              </a:rPr>
              <a:t>Hay palomitas de ma</a:t>
            </a:r>
            <a:r>
              <a:rPr b="0" lang="en-US" sz="1400" spc="-1" strike="noStrike">
                <a:solidFill>
                  <a:srgbClr val="ff0000"/>
                </a:solidFill>
                <a:latin typeface="Elephant"/>
                <a:ea typeface="Arial"/>
              </a:rPr>
              <a:t>í</a:t>
            </a:r>
            <a:r>
              <a:rPr b="0" lang="en-US" sz="1400" spc="-1" strike="noStrike">
                <a:solidFill>
                  <a:srgbClr val="ff0000"/>
                </a:solidFill>
                <a:latin typeface="Elephant"/>
              </a:rPr>
              <a:t>z, soda, y el caramel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876920"/>
            <a:ext cx="5791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envenidos al Cine de Rachel! El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i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s muy pequ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,pero muy fantastico!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La pelicul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s Free Willy. Hay muchos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ession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ara ver la pelicula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La taquill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s donde compra las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ntrada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ntall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 muy grande. Hay vers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s doblada y america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7:04:42Z</dcterms:created>
  <dc:creator>hickeyrac</dc:creator>
  <dc:description/>
  <dc:language>en-US</dc:language>
  <cp:lastModifiedBy>hickeyrac</cp:lastModifiedBy>
  <dcterms:modified xsi:type="dcterms:W3CDTF">2013-01-02T19:11:00Z</dcterms:modified>
  <cp:revision>6</cp:revision>
  <dc:subject/>
  <dc:title>Slide 1</dc:title>
</cp:coreProperties>
</file>